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C04-032B-42B1-A098-96A5BF29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610-5299-4D83-B7D8-7BF4B92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9FC-2577-49D1-8F69-BCC06900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EB7-DE76-4876-B0CA-F531844F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822-5948-48F7-B3E7-C66C2327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53C-5AF2-4968-B10E-C6C2DF7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61C-0B82-4524-AD08-3EFF3E68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076-A94C-4C3D-802A-CBCBBB06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B02-E8FD-478C-AE64-E5DE0691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DB1-5C0B-436F-A942-F0A875C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F4C-61BE-4250-9A12-4B2C882A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CB1-C0BA-40C7-9972-E4FA337D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0A67-10B9-43F4-B69A-196EB8419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1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vlov’s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inction and Spontaneous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11440" y="712800"/>
            <a:ext cx="5715000" cy="5435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vlov’s Device for Recording Sal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1449360"/>
            <a:ext cx="9144000" cy="4479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vlov’s Classic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908440" y="0"/>
            <a:ext cx="3700440" cy="6324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0"/>
            <a:ext cx="2895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Unexpected 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55480" y="1563840"/>
            <a:ext cx="8026560" cy="3733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685800" y="2286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alized Curve of Acquisition, Extinction, and Spontaneou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136600" y="712800"/>
            <a:ext cx="4864320" cy="5435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unconditioned stimul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unconditioned respo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the conditioned stimulus (remember: at first is neutral) occur before the unconditioned stimulus for acquisition to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ight one attempt to cure alcoholism using classical condition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Pavlov’s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gnitive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Predis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308320" y="71280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 Conditioning Among Cancer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vlov’s Leg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of Classical Cond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nt Cond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nner’s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les of Rei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and Conditioned Reinfor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ediate and Delayed Reinfor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ment Sche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n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438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467840" cy="5435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mittent Reinforcement Sched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Skinner’s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gnition and Operant Cond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Predis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nner’s Leg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of Operant Cond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sting Condition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879480"/>
            <a:ext cx="87631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by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dura’s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learn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Observational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Documents and Settings\gdonini\Desktop\10363.jpe"/>
          <p:cNvPicPr/>
          <p:nvPr/>
        </p:nvPicPr>
        <p:blipFill>
          <a:blip r:embed="rId1"/>
          <a:stretch/>
        </p:blipFill>
        <p:spPr>
          <a:xfrm>
            <a:off x="2139840" y="709560"/>
            <a:ext cx="48643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ssoc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learning – linking two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(biological predisposition) and nurture (appropriate learn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al conditioning – two stimuli are linked to anticipat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nt conditioning – response and reward (or avoidance of punishmen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C:\Documents and Settings\gdonini\Desktop\10365.jpe"/>
          <p:cNvPicPr/>
          <p:nvPr/>
        </p:nvPicPr>
        <p:blipFill>
          <a:blip r:embed="rId1"/>
          <a:stretch/>
        </p:blipFill>
        <p:spPr>
          <a:xfrm>
            <a:off x="2235240" y="709560"/>
            <a:ext cx="4673520" cy="5437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2038680" y="1936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Cond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Documents and Settings\gdonini\Desktop\10367.jpe"/>
          <p:cNvPicPr/>
          <p:nvPr/>
        </p:nvPicPr>
        <p:blipFill>
          <a:blip r:embed="rId1"/>
          <a:stretch/>
        </p:blipFill>
        <p:spPr>
          <a:xfrm>
            <a:off x="2279520" y="709560"/>
            <a:ext cx="4584960" cy="5437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040120" y="117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nt Cond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al Cond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avior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an Pavl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F. Sk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4:16:01Z</dcterms:created>
  <dc:creator>bfw</dc:creator>
  <dc:description/>
  <dc:language>en-US</dc:language>
  <cp:lastModifiedBy>MacAdmin Kis</cp:lastModifiedBy>
  <dcterms:modified xsi:type="dcterms:W3CDTF">2008-10-28T05:49:57Z</dcterms:modified>
  <cp:revision>15</cp:revision>
  <dc:subject/>
  <dc:title>Module 20 Classical Conditioning</dc:title>
</cp:coreProperties>
</file>